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ECD-27CB-40B2-AFF2-71E1DE2F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02B-3B61-47C0-97B8-052FBD59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BDE-52B8-4920-A4EE-75E73847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C91-62CE-425D-9172-0D249294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4EB-F241-487B-B0D2-F4641284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217-5DF3-405A-ABD4-62C92093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5CC-0A1B-4B85-9984-9D50DB5D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5FD5-1C0E-4F61-9116-AC91EB36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D44-558C-4146-AA50-3E8EC0AB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A87-2EE9-4695-ABB9-12A49A69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AF2-1170-472E-8817-96F982B5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875-70C3-485B-98E3-27794C33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5706-8E75-4488-9B34-CD01B1D290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cience Works - TE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2997360"/>
            <a:ext cx="6985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"/>
              </a:rPr>
              <a:t>Get your white boards ready . . 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285920" cy="18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05800" y="1052640"/>
            <a:ext cx="14382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cience Works - TE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3068640"/>
            <a:ext cx="6048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n experiment I am timing 10 swings of a pendulum, at different leng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-what is the dependent vari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-what is the independent vari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285920" cy="18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705800" y="1052640"/>
            <a:ext cx="1438200" cy="181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40360" y="112536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27640" y="3357720"/>
            <a:ext cx="2627280" cy="246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- 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-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- No. sw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-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cience Works - TE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3068640"/>
            <a:ext cx="6048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investigating the number of pupils with blue eyes in the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variable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285920" cy="184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705800" y="1052640"/>
            <a:ext cx="1438200" cy="1819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40360" y="112536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00720" y="3357720"/>
            <a:ext cx="2627280" cy="246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-  categ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- contin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- disc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- ord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cience Works - TE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3068640"/>
            <a:ext cx="6048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completely control all the variables and only change the independent variable in my experiment. What sort of experimen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285920" cy="184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705800" y="1052640"/>
            <a:ext cx="1438200" cy="1819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40360" y="112536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7640" y="3357720"/>
            <a:ext cx="2627280" cy="246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- accu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- pre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- 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- va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cience Works - TE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3068640"/>
            <a:ext cx="6048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my experiment I am measuring the number of star jumps a person does in 30 seconds, what is the dependent variable I am measur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285920" cy="1843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705800" y="1052640"/>
            <a:ext cx="1438200" cy="1819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40360" y="112536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7640" y="3357720"/>
            <a:ext cx="2627280" cy="246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-  categ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- contin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- disc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- ord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cience Works - TE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3068640"/>
            <a:ext cx="6048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ne of these can be measured by a percentage when discussing the results and can be improved by carrying out repeat measurements and finding a m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285920" cy="1843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705800" y="1052640"/>
            <a:ext cx="1438200" cy="181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40360" y="112536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357720"/>
            <a:ext cx="2627280" cy="246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-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- pr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- fair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-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cience Works - TE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3068640"/>
            <a:ext cx="6048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a new gadget bought on ebay,I estimated the temp of the Sun’s sur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device gave these read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101.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  1100.9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  110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  1101.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think that my results are . 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285920" cy="18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705800" y="1052640"/>
            <a:ext cx="1438200" cy="1819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40360" y="112536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3357720"/>
            <a:ext cx="2627280" cy="246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-  accu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- 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- pre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- ran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20:41:36Z</dcterms:created>
  <dc:creator>BRISTOL CITY COUNCIL</dc:creator>
  <dc:description/>
  <dc:language>en-US</dc:language>
  <cp:lastModifiedBy>stbanksg</cp:lastModifiedBy>
  <dcterms:modified xsi:type="dcterms:W3CDTF">2006-11-13T11:44:31Z</dcterms:modified>
  <cp:revision>6</cp:revision>
  <dc:subject/>
  <dc:title>How Science Works - TEST</dc:title>
</cp:coreProperties>
</file>